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8B9-B190-4E0F-9ACC-BFEA20F0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345-47FD-46AF-8677-0BD3AA7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D63-4951-4E31-AE7D-6EDC4E76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20F-7FE8-4F2E-95D7-E902F2D5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E20D-0157-409E-BF60-B8171E4E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E26A-7AEC-4455-8F6A-4274964E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0F2F-D578-4A7C-9EDF-A33183E7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C807-C507-4E94-B967-556EA59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5861-73DA-4FA0-8B5D-F97B405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1EB9-7B05-422D-A5FA-F3AC423F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00A6-4E0F-49F7-806A-746879FA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513-35ED-4E0A-9FFE-9B12C74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F05B-43A2-4D6A-801D-E32F33D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C4BD-3871-4A7D-9111-3B70EB2E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AD13-A7DE-485C-94DD-932DF8A2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6355-DC6D-499B-A448-E24ED4CE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6B15-0BB8-44B1-AC47-77205E1E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F5F-9BBB-4EA5-A786-3AD435C1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82A-2A4F-4E65-BF07-488A8F3F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350-B542-46E1-BFE4-678DB3CC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9D3-54D6-4CB9-86C3-3ED0AA4C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4F0-EC85-4674-8512-7C448A87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EB3C-986D-4ED7-9E3B-E2DCDCE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D32-4D5B-47B1-8A18-67ECB39D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D677-316E-4694-A888-77637AC6655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AE7-0537-4DE9-A2E8-7A48356DEC9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Adquisición de Seguros Institucion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74284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NA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celo Carras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io Valenzue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2214360"/>
            <a:ext cx="8839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Unidad encargada: Departamento de 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Los seguros que contrata están orientados a varios ítem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Vehíc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Embar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batientes o brigadist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Guarda parq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nmue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Altos ejecu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Descripción del Pro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143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Cliente: Departamento de Administración de CONAF Nacion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Producto: Seguros de distinto tipo. Vehículos, brigadistas, inmuebles, computadores, guarda parqu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Objetivo del proceso: Contratación de seguros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Medida de efectividad: Bienes y personas permanentemente asegura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Fuentes de generación de valor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Publicación de la licitación por Interne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Decisión de adquisi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Comunicación de  la información de adquisicion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agrama IDEF0 </a:t>
            </a: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64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Juicios y fundamentos sobre el actual funcionamiento del proceso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caso conocimiento sobre las materias aseguradas por parte de los funcionario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Mayor información de la siniestralidad ayudaría a mejorar la gestión en este ámbi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xiste desconocimiento de los procesos de liquidación de los seguros por parte de los funcionarios regio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6:32:48Z</dcterms:created>
  <dc:creator>Marcelo</dc:creator>
  <dc:description/>
  <dc:language>en-US</dc:language>
  <cp:lastModifiedBy>Mario Valenzuela</cp:lastModifiedBy>
  <dcterms:modified xsi:type="dcterms:W3CDTF">2005-08-09T04:08:54Z</dcterms:modified>
  <cp:revision>5</cp:revision>
  <dc:subject/>
  <dc:title>Adquisición de Seguros</dc:title>
</cp:coreProperties>
</file>